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4AC-A168-4B7D-AD35-D506CD4A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E2D-8348-45FE-A22E-D8DE013C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858-AD49-4DD4-BF31-123F1DE6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416-C62E-4923-B55E-D5C5BED6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85E-E817-4D05-A876-D2B4D744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F89-C17C-4BEA-BB94-BEEE3486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AAB-946F-49F5-9BFE-06A8A1A6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965-5761-4C08-9C93-2F0A1B2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BEC-D7E5-4F53-AECD-ABA6778B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DEC-287F-4C70-A6E3-B8452585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937-F54E-4537-9793-B9C842B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7FB-B4B0-4244-9C15-F1CC3B13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95C1-92E2-47B4-BD29-33D6FC0D0F4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+ některé činnosti spadající do okruh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, a další aktivity okruhu A, pokud jsou zaměřené na konkrétní zaměstnavatele (tj. nepřenositelné na jiné podni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podpora de minimis veřejnou podporou, neboť z důvodu své bagatelní výše nemůže ovlivnit obchod mezi členskými státy a  ani narušit hospodářskou soutěž, a nesplňuje tak všechny čtyři znaky veřejné podpory 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360"/>
            <a:ext cx="8439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76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„Rozdělení veřejné podpory a soukromého financování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dnikatelských aktivit cílové skupiny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ání mzdových příspěvků + některé činnosti spadající do okruhu 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08T12:20:51Z</dcterms:modified>
  <cp:revision>284</cp:revision>
  <dc:subject/>
  <dc:title>Snímek 1</dc:title>
</cp:coreProperties>
</file>